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E77-E44C-4478-BE48-F76F62B8ED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ueshe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学生使用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1D10-0E1D-4450-98CF-C19DDC7A4D6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3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498-BAB5-4A94-923D-2C5BF3AFF98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6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50B-B2A7-451B-8D9E-6B3DF1D28CF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A2F8-7E85-4664-AE9E-96B8008C8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B298-BF82-48C7-B31A-E0E559A0A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C2FD-EA98-4C67-A5B0-F56FB6286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D3F-1D80-42C8-B9EB-BB1FD9B3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618-862C-4019-AA50-06BC2CBB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5AA-9222-4247-BE5A-C0F0A11A0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移动端使用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FBA6-9E56-4D4D-A78E-9CDEDBBF30A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5DDC-3CEE-49F6-A7A2-4241C485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2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BF84-F056-42FC-982D-34EE40E0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3FB3-069D-49E7-ABB2-FC5CD090C0A5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A53E-8BD5-4ACF-A018-67DE80A1F20A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B08C-A685-4BB3-ABEA-10556D94DBAA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2AE5-0BEB-4799-ABF0-9955067411A6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E91-7170-414A-966B-B0841CB68CDE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993-DF5F-4CCB-8EB5-1F3C2E3B1FED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DC7-A84D-4629-999B-1CA6A944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D0F-1CB8-4340-B9BC-07CB9CA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109-75BF-4FDB-97AC-81DBD4B3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B1B-8038-43F6-A741-FF344D1E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98E8-5618-41A0-A4C1-E2E0E7DB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372-B280-4E04-9BC4-721CF64E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DFAA-4BA2-449F-98EC-1E80A807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779-8D4C-462F-A4F5-5078A11C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78C0-3B14-42DA-B600-9EDF16BC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0994-815E-4C95-80EA-656FFFF5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4824-C8DE-47C4-BE74-157D8C6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67F-FA02-4F13-81C4-7A4622F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203D-9529-48C7-92A4-D9433402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90B8-04B1-4EF4-B702-AD404862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3550-4311-4A84-A92A-1141FC42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F5A7-AD11-4B07-ABFC-74D32C01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5058-6951-4B14-88E8-BA978E8C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7266-5986-4D98-8961-688FBE19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BA4F-B1E9-439E-83AC-A534C4A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EAFF-5ACE-4D2C-8256-DA4A396D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5E51-6B93-4912-863D-6F4A816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5F65-B831-4BB5-A7EB-708E463A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B3A-A4C6-4E34-ACCD-3AC7269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0C40-0CD7-4856-ABF6-74602C5C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7421-1990-4326-AD1A-532A6E4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775C-44C3-4DE5-9F98-B0C4F11C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FC7B-AD85-49D9-A6FF-47695099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4A06-806E-4B0C-AB01-A38A6F63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E413-79E3-421A-8BF4-F001AAC6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6F85-CAAA-4260-9F2C-6E0218FB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AE3F-B836-4B01-AF50-5B2C2331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4D21-AD57-41DC-97F4-1BF1D471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4EC76-0719-48DE-A2FC-F5D288AB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B8E-02E3-405A-AD80-904E0AF2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A792-8565-4320-9B4E-D1EF1D9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409E-16DF-47C6-9FA8-522E0186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C097-3781-4F0E-AEB5-2CB238A4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C56DA-3A66-4F34-8237-D0522616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695CD-85A8-4829-9E7F-11514EA9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E17AE-C7DE-42E5-80C4-50100C0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F5D6-8123-4782-A355-EA79CDB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9209-C616-475D-B072-A5619209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E1FB-CEE5-48CE-BD39-71710AA4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E0C-3B55-4B5E-88F3-BE0220F5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936-5E20-4445-8F43-92F91AD1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403-CC4B-48B7-807A-DD86733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CAD-243A-4144-9293-FEABBFCC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326-4ADA-4ADF-A491-082EC09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B6C3-D585-442C-888D-D2A08DE99E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FE90-5C4E-4EEE-B2AA-83DA04935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3749-369E-4866-B3F9-8CB0E83DA2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0C68-B4F3-498C-A932-72B7C7947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yujxjy.fanya.chaoxing.com/?schoolid=128946&amp;ismoocunit=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5"/>
          <p:cNvSpPr/>
          <p:nvPr/>
        </p:nvSpPr>
        <p:spPr>
          <a:xfrm>
            <a:off x="0" y="2492280"/>
            <a:ext cx="9144000" cy="20163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标题 1"/>
          <p:cNvSpPr/>
          <p:nvPr/>
        </p:nvSpPr>
        <p:spPr>
          <a:xfrm>
            <a:off x="395280" y="3500280"/>
            <a:ext cx="78868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学士学位课程学习                  使用说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3492360" y="5373720"/>
            <a:ext cx="1943280" cy="719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沈阳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2340000" y="5661000"/>
            <a:ext cx="3527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5373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484360" y="5300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只有完成第一，二部分章节学习后才能依次解锁下面其它章节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3"/>
          <p:cNvSpPr/>
          <p:nvPr/>
        </p:nvSpPr>
        <p:spPr>
          <a:xfrm>
            <a:off x="0" y="428760"/>
            <a:ext cx="9144000" cy="10126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35712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二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3814920" y="1616040"/>
            <a:ext cx="251748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5"/>
          <p:cNvSpPr/>
          <p:nvPr/>
        </p:nvSpPr>
        <p:spPr>
          <a:xfrm>
            <a:off x="1547640" y="4808520"/>
            <a:ext cx="2346480" cy="461880"/>
          </a:xfrm>
          <a:prstGeom prst="wedgeRectCallout">
            <a:avLst>
              <a:gd name="adj1" fmla="val 75425"/>
              <a:gd name="adj2" fmla="val 1360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4748040" y="5614920"/>
            <a:ext cx="650880" cy="262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机构账号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3324240" cy="498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" descr=""/>
          <p:cNvPicPr/>
          <p:nvPr/>
        </p:nvPicPr>
        <p:blipFill>
          <a:blip r:embed="rId2"/>
          <a:stretch/>
        </p:blipFill>
        <p:spPr>
          <a:xfrm>
            <a:off x="4859280" y="1747800"/>
            <a:ext cx="3326040" cy="4776840"/>
          </a:xfrm>
          <a:prstGeom prst="rect">
            <a:avLst/>
          </a:prstGeom>
          <a:ln w="0">
            <a:noFill/>
          </a:ln>
        </p:spPr>
      </p:pic>
      <p:sp>
        <p:nvSpPr>
          <p:cNvPr id="224" name="矩形标注 5"/>
          <p:cNvSpPr/>
          <p:nvPr/>
        </p:nvSpPr>
        <p:spPr>
          <a:xfrm>
            <a:off x="3132000" y="1776240"/>
            <a:ext cx="1727280" cy="776520"/>
          </a:xfrm>
          <a:prstGeom prst="wedgeRectCallout">
            <a:avLst>
              <a:gd name="adj1" fmla="val -95601"/>
              <a:gd name="adj2" fmla="val 5627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沈阳大学继续教育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标注 5"/>
          <p:cNvSpPr/>
          <p:nvPr/>
        </p:nvSpPr>
        <p:spPr>
          <a:xfrm>
            <a:off x="6014880" y="3665520"/>
            <a:ext cx="1941840" cy="555480"/>
          </a:xfrm>
          <a:prstGeom prst="wedgeRectCallout">
            <a:avLst>
              <a:gd name="adj1" fmla="val -39833"/>
              <a:gd name="adj2" fmla="val -14448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设置新密码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验证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标注 5"/>
          <p:cNvSpPr/>
          <p:nvPr/>
        </p:nvSpPr>
        <p:spPr>
          <a:xfrm>
            <a:off x="3219480" y="5126040"/>
            <a:ext cx="1944720" cy="863640"/>
          </a:xfrm>
          <a:prstGeom prst="wedgeRectCallout">
            <a:avLst>
              <a:gd name="adj1" fmla="val -58986"/>
              <a:gd name="adj2" fmla="val -17578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初始密码</a:t>
            </a: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684360" y="2997360"/>
            <a:ext cx="2592360" cy="86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" descr=""/>
          <p:cNvPicPr/>
          <p:nvPr/>
        </p:nvPicPr>
        <p:blipFill>
          <a:blip r:embed="rId1"/>
          <a:stretch/>
        </p:blipFill>
        <p:spPr>
          <a:xfrm>
            <a:off x="1763640" y="1747800"/>
            <a:ext cx="2232000" cy="4560840"/>
          </a:xfrm>
          <a:prstGeom prst="rect">
            <a:avLst/>
          </a:prstGeom>
          <a:ln w="0">
            <a:noFill/>
          </a:ln>
        </p:spPr>
      </p:pic>
      <p:sp>
        <p:nvSpPr>
          <p:cNvPr id="231" name="矩形标注 3"/>
          <p:cNvSpPr/>
          <p:nvPr/>
        </p:nvSpPr>
        <p:spPr>
          <a:xfrm>
            <a:off x="2576520" y="4149720"/>
            <a:ext cx="2011320" cy="860400"/>
          </a:xfrm>
          <a:prstGeom prst="wedgeRectCallout">
            <a:avLst>
              <a:gd name="adj1" fmla="val -52097"/>
              <a:gd name="adj2" fmla="val -12267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所有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835280" y="3141720"/>
            <a:ext cx="865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5018040" y="1563840"/>
            <a:ext cx="2232000" cy="4830480"/>
            <a:chOff x="5018040" y="1563840"/>
            <a:chExt cx="2232000" cy="48304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tretch/>
          </p:blipFill>
          <p:spPr>
            <a:xfrm>
              <a:off x="5018040" y="1563840"/>
              <a:ext cx="2232000" cy="48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3301" t="17450" r="3301" b="65753"/>
            <a:stretch/>
          </p:blipFill>
          <p:spPr>
            <a:xfrm>
              <a:off x="5075640" y="2349360"/>
              <a:ext cx="20880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矩形标注 3"/>
          <p:cNvSpPr/>
          <p:nvPr/>
        </p:nvSpPr>
        <p:spPr>
          <a:xfrm>
            <a:off x="5940360" y="3719520"/>
            <a:ext cx="2011320" cy="860400"/>
          </a:xfrm>
          <a:prstGeom prst="wedgeRectCallout">
            <a:avLst>
              <a:gd name="adj1" fmla="val -46708"/>
              <a:gd name="adj2" fmla="val -12031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进课程进行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1"/>
          <a:srcRect l="0" t="0" r="0" b="35478"/>
          <a:stretch/>
        </p:blipFill>
        <p:spPr>
          <a:xfrm>
            <a:off x="-11160" y="2027160"/>
            <a:ext cx="9144000" cy="397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7400" y="16092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"/>
          <p:cNvSpPr/>
          <p:nvPr/>
        </p:nvSpPr>
        <p:spPr>
          <a:xfrm>
            <a:off x="1165320" y="314172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浏览器，输入网址：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ujxjy.fanya.chaox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63640" y="1441440"/>
            <a:ext cx="7380360" cy="538812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标注 4"/>
          <p:cNvSpPr/>
          <p:nvPr/>
        </p:nvSpPr>
        <p:spPr>
          <a:xfrm>
            <a:off x="4427640" y="4581360"/>
            <a:ext cx="2468520" cy="584280"/>
          </a:xfrm>
          <a:prstGeom prst="wedgeRectCallout">
            <a:avLst>
              <a:gd name="adj1" fmla="val 56564"/>
              <a:gd name="adj2" fmla="val -333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登录按钮，进入登录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4" descr=""/>
          <p:cNvPicPr/>
          <p:nvPr/>
        </p:nvPicPr>
        <p:blipFill>
          <a:blip r:embed="rId1"/>
          <a:stretch/>
        </p:blipFill>
        <p:spPr>
          <a:xfrm>
            <a:off x="179280" y="1495440"/>
            <a:ext cx="8202600" cy="5302080"/>
          </a:xfrm>
          <a:prstGeom prst="rect">
            <a:avLst/>
          </a:prstGeom>
          <a:ln w="0">
            <a:noFill/>
          </a:ln>
        </p:spPr>
      </p:pic>
      <p:sp>
        <p:nvSpPr>
          <p:cNvPr id="248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标注 9"/>
          <p:cNvSpPr/>
          <p:nvPr/>
        </p:nvSpPr>
        <p:spPr>
          <a:xfrm>
            <a:off x="4560840" y="2316240"/>
            <a:ext cx="3218040" cy="931680"/>
          </a:xfrm>
          <a:prstGeom prst="wedgeRectCallout">
            <a:avLst>
              <a:gd name="adj1" fmla="val -67898"/>
              <a:gd name="adj2" fmla="val 131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选择“机构账号登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输入账号密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登录账号：身份证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首次登录密码：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4" descr=""/>
          <p:cNvPicPr/>
          <p:nvPr/>
        </p:nvPicPr>
        <p:blipFill>
          <a:blip r:embed="rId1"/>
          <a:srcRect l="0" t="0" r="0" b="14533"/>
          <a:stretch/>
        </p:blipFill>
        <p:spPr>
          <a:xfrm>
            <a:off x="0" y="1440000"/>
            <a:ext cx="9132840" cy="4560840"/>
          </a:xfrm>
          <a:prstGeom prst="rect">
            <a:avLst/>
          </a:prstGeom>
          <a:ln w="0">
            <a:noFill/>
          </a:ln>
        </p:spPr>
      </p:pic>
      <p:sp>
        <p:nvSpPr>
          <p:cNvPr id="252" name="矩形 6"/>
          <p:cNvSpPr/>
          <p:nvPr/>
        </p:nvSpPr>
        <p:spPr>
          <a:xfrm>
            <a:off x="417600" y="2631960"/>
            <a:ext cx="1087200" cy="33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成功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绑定手机号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417760" y="3029040"/>
            <a:ext cx="2025720" cy="44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标注 7"/>
          <p:cNvSpPr/>
          <p:nvPr/>
        </p:nvSpPr>
        <p:spPr>
          <a:xfrm>
            <a:off x="5284800" y="3011400"/>
            <a:ext cx="2224080" cy="642960"/>
          </a:xfrm>
          <a:prstGeom prst="wedgeRectCallout">
            <a:avLst>
              <a:gd name="adj1" fmla="val -89986"/>
              <a:gd name="adj2" fmla="val -1361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绑定手机号，绑定成功可以通过手机号登录（包括移动端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标注 14"/>
          <p:cNvSpPr/>
          <p:nvPr/>
        </p:nvSpPr>
        <p:spPr>
          <a:xfrm>
            <a:off x="542880" y="3654360"/>
            <a:ext cx="1528920" cy="584280"/>
          </a:xfrm>
          <a:prstGeom prst="wedgeRectCallout">
            <a:avLst>
              <a:gd name="adj1" fmla="val -19689"/>
              <a:gd name="adj2" fmla="val -17686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进入“账号管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rcRect l="0" t="0" r="0" b="7671"/>
          <a:stretch/>
        </p:blipFill>
        <p:spPr>
          <a:xfrm>
            <a:off x="0" y="1263600"/>
            <a:ext cx="9132840" cy="4749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66470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0" y="-324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"/>
          <p:cNvSpPr/>
          <p:nvPr/>
        </p:nvSpPr>
        <p:spPr>
          <a:xfrm>
            <a:off x="428760" y="1144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"/>
          <p:cNvPicPr/>
          <p:nvPr/>
        </p:nvPicPr>
        <p:blipFill>
          <a:blip r:embed="rId1"/>
          <a:stretch/>
        </p:blipFill>
        <p:spPr>
          <a:xfrm>
            <a:off x="108000" y="581040"/>
            <a:ext cx="8223120" cy="5695920"/>
          </a:xfrm>
          <a:prstGeom prst="rect">
            <a:avLst/>
          </a:prstGeom>
          <a:ln w="0">
            <a:noFill/>
          </a:ln>
        </p:spPr>
      </p:pic>
      <p:sp>
        <p:nvSpPr>
          <p:cNvPr id="261" name="矩形标注 4"/>
          <p:cNvSpPr/>
          <p:nvPr/>
        </p:nvSpPr>
        <p:spPr>
          <a:xfrm>
            <a:off x="3492360" y="4292640"/>
            <a:ext cx="1811520" cy="830160"/>
          </a:xfrm>
          <a:prstGeom prst="wedgeRectCallout">
            <a:avLst>
              <a:gd name="adj1" fmla="val -144638"/>
              <a:gd name="adj2" fmla="val -99152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“通用课程”，我学的课，进入到课程学习页面，点击课程任意位置，进入章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-11160" y="-20520"/>
            <a:ext cx="9144000" cy="5839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417600" y="9684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150840" y="1095480"/>
            <a:ext cx="8842320" cy="5216400"/>
          </a:xfrm>
          <a:prstGeom prst="rect">
            <a:avLst/>
          </a:prstGeom>
          <a:ln w="0">
            <a:noFill/>
          </a:ln>
        </p:spPr>
      </p:pic>
      <p:sp>
        <p:nvSpPr>
          <p:cNvPr id="265" name="矩形标注 4"/>
          <p:cNvSpPr/>
          <p:nvPr/>
        </p:nvSpPr>
        <p:spPr>
          <a:xfrm>
            <a:off x="5202360" y="2682720"/>
            <a:ext cx="1266840" cy="255600"/>
          </a:xfrm>
          <a:prstGeom prst="wedgeRectCallout">
            <a:avLst>
              <a:gd name="adj1" fmla="val -43518"/>
              <a:gd name="adj2" fmla="val -5225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“首页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标注 5"/>
          <p:cNvSpPr/>
          <p:nvPr/>
        </p:nvSpPr>
        <p:spPr>
          <a:xfrm>
            <a:off x="2651040" y="3584520"/>
            <a:ext cx="2206800" cy="238320"/>
          </a:xfrm>
          <a:prstGeom prst="wedgeRectCallout">
            <a:avLst>
              <a:gd name="adj1" fmla="val -92731"/>
              <a:gd name="adj2" fmla="val -52370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进入相应章节学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79" name="内容占位符 4" descr=""/>
          <p:cNvPicPr/>
          <p:nvPr/>
        </p:nvPicPr>
        <p:blipFill>
          <a:blip r:embed="rId2"/>
          <a:stretch/>
        </p:blipFill>
        <p:spPr>
          <a:xfrm>
            <a:off x="1332000" y="2778120"/>
            <a:ext cx="2782800" cy="275760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0" name="矩形标注 5"/>
          <p:cNvSpPr/>
          <p:nvPr/>
        </p:nvSpPr>
        <p:spPr>
          <a:xfrm>
            <a:off x="5402160" y="2589120"/>
            <a:ext cx="3137040" cy="1092240"/>
          </a:xfrm>
          <a:prstGeom prst="wedgeRectCallout">
            <a:avLst>
              <a:gd name="adj1" fmla="val -84578"/>
              <a:gd name="adj2" fmla="val 4081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扫描二维码，进入应用商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000000"/>
                </a:solidFill>
                <a:latin typeface="黑体"/>
                <a:ea typeface="黑体"/>
              </a:rPr>
              <a:t>下载“学习通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84" name="内容占位符 4" descr=""/>
          <p:cNvPicPr/>
          <p:nvPr/>
        </p:nvPicPr>
        <p:blipFill>
          <a:blip r:embed="rId2"/>
          <a:srcRect l="0" t="2563" r="35738" b="61508"/>
          <a:stretch/>
        </p:blipFill>
        <p:spPr>
          <a:xfrm>
            <a:off x="1262160" y="2712960"/>
            <a:ext cx="2906640" cy="288936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5" name="矩形标注 5"/>
          <p:cNvSpPr/>
          <p:nvPr/>
        </p:nvSpPr>
        <p:spPr>
          <a:xfrm>
            <a:off x="4902120" y="2712960"/>
            <a:ext cx="3137040" cy="1092240"/>
          </a:xfrm>
          <a:prstGeom prst="wedgeRectCallout">
            <a:avLst>
              <a:gd name="adj1" fmla="val -94601"/>
              <a:gd name="adj2" fmla="val 1594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下载完成，点击“学习通”，进入移动学习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1494000" y="2820960"/>
            <a:ext cx="992160" cy="98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2894040" y="1441440"/>
            <a:ext cx="2517840" cy="4476600"/>
          </a:xfrm>
          <a:prstGeom prst="rect">
            <a:avLst/>
          </a:prstGeom>
          <a:ln w="0">
            <a:noFill/>
          </a:ln>
        </p:spPr>
      </p:pic>
      <p:sp>
        <p:nvSpPr>
          <p:cNvPr id="190" name="矩形 13"/>
          <p:cNvSpPr/>
          <p:nvPr/>
        </p:nvSpPr>
        <p:spPr>
          <a:xfrm>
            <a:off x="-11160" y="500040"/>
            <a:ext cx="9144000" cy="94140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995560" y="4000680"/>
            <a:ext cx="650880" cy="261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标注 5"/>
          <p:cNvSpPr/>
          <p:nvPr/>
        </p:nvSpPr>
        <p:spPr>
          <a:xfrm>
            <a:off x="325440" y="4427640"/>
            <a:ext cx="2346480" cy="461880"/>
          </a:xfrm>
          <a:prstGeom prst="wedgeRectCallout">
            <a:avLst>
              <a:gd name="adj1" fmla="val 70231"/>
              <a:gd name="adj2" fmla="val -8979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新用户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0"/>
          <p:cNvSpPr/>
          <p:nvPr/>
        </p:nvSpPr>
        <p:spPr>
          <a:xfrm>
            <a:off x="357120" y="785880"/>
            <a:ext cx="56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一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195120" y="1508040"/>
            <a:ext cx="2440080" cy="528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标注 2"/>
          <p:cNvSpPr/>
          <p:nvPr/>
        </p:nvSpPr>
        <p:spPr>
          <a:xfrm>
            <a:off x="1062000" y="4795920"/>
            <a:ext cx="2602080" cy="869760"/>
          </a:xfrm>
          <a:prstGeom prst="wedgeRectCallout">
            <a:avLst>
              <a:gd name="adj1" fmla="val -33648"/>
              <a:gd name="adj2" fmla="val -16825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手机号及密码，然后进行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8)80AN6N)X`B}0~QQ_4ZY74"/>
          <p:cNvPicPr/>
          <p:nvPr/>
        </p:nvPicPr>
        <p:blipFill>
          <a:blip r:embed="rId2"/>
          <a:stretch/>
        </p:blipFill>
        <p:spPr>
          <a:xfrm>
            <a:off x="6416640" y="1573200"/>
            <a:ext cx="2344680" cy="5216400"/>
          </a:xfrm>
          <a:prstGeom prst="rect">
            <a:avLst/>
          </a:prstGeom>
          <a:ln w="0">
            <a:noFill/>
          </a:ln>
        </p:spPr>
      </p:pic>
      <p:sp>
        <p:nvSpPr>
          <p:cNvPr id="199" name="矩形标注 5"/>
          <p:cNvSpPr/>
          <p:nvPr/>
        </p:nvSpPr>
        <p:spPr>
          <a:xfrm>
            <a:off x="4645080" y="4896000"/>
            <a:ext cx="2601720" cy="869760"/>
          </a:xfrm>
          <a:prstGeom prst="wedgeRectCallout">
            <a:avLst>
              <a:gd name="adj1" fmla="val 34171"/>
              <a:gd name="adj2" fmla="val -166129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“沈阳大学继续教育学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22"/>
          <p:cNvSpPr/>
          <p:nvPr/>
        </p:nvSpPr>
        <p:spPr>
          <a:xfrm>
            <a:off x="5149800" y="2871720"/>
            <a:ext cx="3005280" cy="685800"/>
          </a:xfrm>
          <a:prstGeom prst="wedgeRectCallout">
            <a:avLst>
              <a:gd name="adj1" fmla="val -77555"/>
              <a:gd name="adj2" fmla="val 1560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及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$W3([$L0%X938Z)291_TA4U"/>
          <p:cNvPicPr/>
          <p:nvPr/>
        </p:nvPicPr>
        <p:blipFill>
          <a:blip r:embed="rId1"/>
          <a:stretch/>
        </p:blipFill>
        <p:spPr>
          <a:xfrm>
            <a:off x="960480" y="1579680"/>
            <a:ext cx="2390760" cy="5362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593640" y="2476440"/>
            <a:ext cx="3005280" cy="22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：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" descr=""/>
          <p:cNvPicPr/>
          <p:nvPr/>
        </p:nvPicPr>
        <p:blipFill>
          <a:blip r:embed="rId1"/>
          <a:stretch/>
        </p:blipFill>
        <p:spPr>
          <a:xfrm>
            <a:off x="741240" y="1523880"/>
            <a:ext cx="2497320" cy="54039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6226200" y="1501920"/>
            <a:ext cx="2371680" cy="5133960"/>
          </a:xfrm>
          <a:prstGeom prst="rect">
            <a:avLst/>
          </a:prstGeom>
          <a:ln w="0">
            <a:noFill/>
          </a:ln>
        </p:spPr>
      </p:pic>
      <p:sp>
        <p:nvSpPr>
          <p:cNvPr id="209" name="矩形标注 3"/>
          <p:cNvSpPr/>
          <p:nvPr/>
        </p:nvSpPr>
        <p:spPr>
          <a:xfrm>
            <a:off x="2487600" y="4016520"/>
            <a:ext cx="2011320" cy="860400"/>
          </a:xfrm>
          <a:prstGeom prst="wedgeRectCallout">
            <a:avLst>
              <a:gd name="adj1" fmla="val -111703"/>
              <a:gd name="adj2" fmla="val -18092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自己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标注 4"/>
          <p:cNvSpPr/>
          <p:nvPr/>
        </p:nvSpPr>
        <p:spPr>
          <a:xfrm>
            <a:off x="4626000" y="4016520"/>
            <a:ext cx="2011320" cy="860400"/>
          </a:xfrm>
          <a:prstGeom prst="wedgeRectCallout">
            <a:avLst>
              <a:gd name="adj1" fmla="val 44726"/>
              <a:gd name="adj2" fmla="val -8424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课程章节页面，点击章节即可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6T02:12:06Z</dcterms:created>
  <dc:creator>1111</dc:creator>
  <dc:description/>
  <dc:language>en-US</dc:language>
  <cp:lastModifiedBy>user</cp:lastModifiedBy>
  <dcterms:modified xsi:type="dcterms:W3CDTF">2022-05-20T11:15:5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